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A94-33B1-4DBE-BF19-1DA0F70025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9C50-A256-4C04-9C76-41119674BA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14D-4CEC-405B-89A9-C6E58207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31E-9E93-4FB9-A5BE-7F6B8D4D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A50-9697-4B24-834F-47D169A9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66E-8E7B-4B07-A9F0-5A3624A9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7351-8EBB-4618-B993-646215E5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DAFC-3F0B-4B0E-BCBA-06BA847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BC62-733B-45E9-A4F7-26FEE5A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045C-197F-401B-B4E0-F6A8805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0E158-4BB0-482C-B2CC-E3D3061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9F994-88CC-48E3-9890-1AEE093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AE6F-6ADE-402E-9B3A-1B8D860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4D3-2983-4044-B973-4EE25CC9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E552-C3E5-42B2-BAB7-5443563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8280-1F2F-4DBF-A533-11063A7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72120-9D06-4010-91FF-6A1E1BF0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9F26-985E-4673-B481-69AD2320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BD35-6CDD-4BF8-9237-FA883020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1AC1-FC33-4120-B9A1-32D3A2F9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3EF1-9D10-4644-B7A8-721D9FE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5E08-DA12-4308-B07A-126B04F0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53CF-BE6B-4DCE-8F8C-AC45C89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349B-1FDF-49F7-BF23-779289F4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1F7-F2AE-4B1A-84E1-35854B8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F130-E14F-45B3-944B-FBB0647A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E7FF-EA4D-46D7-8EAC-B6DE9B4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C3CC-E6C7-4CEF-9003-3169E34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91A4-E586-4452-A4BD-3721564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F216-2D11-45F0-B75E-0841700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A5CB-039B-4E11-B5EF-7043AFC9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1FFA-32C7-44E1-8B51-6CD470B5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30A9-459C-43AA-97DB-27BB17CA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D7EC-AF6B-4DBA-8250-905858D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7303-819E-46E7-A473-EC40981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6BB-E614-4FD4-8CBB-050B4F34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2604-4785-4E96-92EE-84A71C6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9D7A-5EBD-4816-A9D2-71DC876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129F-4E1D-4E66-AA0F-57D8F43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DA85-C8B7-494C-8BA4-A219C6C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DA79-FF8E-4A0C-8463-E75EB7E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3C76-53AC-4726-8F34-3CCAA8AE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5A3F-B89E-47FC-8244-C2F60B1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A72A-BEC0-43F1-94E0-F0E28300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C3DF-8AE2-4BA5-9257-31117B7C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43A8-0980-4FBA-A8FB-53D93CB0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F77-BA42-4E17-AA6F-71D104B1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6EFD-02AB-44EF-8B44-CE159990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AC78-3D68-4FF1-A546-93329F2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08B3-619A-43B7-8D53-18C787D9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A965-4C72-4A54-B7E0-941A9EE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2B59-81AD-4F6E-B43F-92325BE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3D4F9-EB0B-4575-BA1A-A08CBC9B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AD82-7E64-4EDF-A189-C9DAAE6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54384-65EE-4F6B-9E45-8AE50C5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68D4-361D-4088-9A74-AC29EA15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6DAB-6378-4DF6-8856-191472A3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C0D-DDED-4842-B31A-4C9BFCA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BD1C-ED8F-43BF-B6E9-2242F0E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5849-0E24-4D87-8C8E-D8121D8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9C10-ADDE-4A6A-8A9B-9CBE42A0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7ED1-67F5-468D-8C14-4093E05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FCD2-F684-4205-8B76-7E22FF4E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7B27-DB63-4B63-8807-577D1CEE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DB65-D517-4363-98DB-C120F36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53D2-20CA-482D-8CA6-BD4AF84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3378-9883-4E7B-99AB-7906A28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A4D4-C9AB-40B1-9F90-0F728A8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046-DD5A-431C-9CA6-3B4867F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AE02-B662-4BCF-99F0-7A2E4E7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0060-A7F8-4246-B45D-E1B4401B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6003-717A-4302-B61A-FE2C5AF5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FFFAC-11EE-412F-8ED7-20C67C8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CBBF-BB86-4871-B92C-66620230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3443C-BDA9-4240-B6C4-50F88AF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512C-2F69-4607-9903-F49A16D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20BF-252F-4CC2-9CAE-8AA5ED0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D026-8548-446D-8549-39E92B47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737C-BC49-4CA8-9AE6-1C83AFB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D79-204D-4E42-949A-7BB5EACD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974B4-062D-4918-B4A6-EE27B3F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5E02F-3F4D-4128-901E-B51530E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8B67A-0FED-41AE-92F8-1E887AB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2FD2-06B2-4336-A7B3-FD019A12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E754C-C519-4F37-B7B1-19A4FE4E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B2DBE-78BE-4798-8EE5-0AD42A46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949A2-315D-4E35-A254-D28072F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B1F4-79CF-4988-BB94-EF0C745A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7FEB-702F-4016-A1A3-6A884D5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2C1B-4BB9-4846-AD78-08F2FC4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E1E-3CF1-4A48-B784-FC0EF7C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2752-D400-49B5-84BB-763272E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AAD2B-6A75-4220-848A-3942D75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E0E9A-18BE-4DE9-ACAD-32074B0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18B84-5D34-4133-B4D3-FF17D51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2309E-E7C6-4C8D-8BA8-B5DFF82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3C4E-31E1-44B3-B8C0-66E2A1A3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4CCC7-54A7-47A4-82BB-69E7C402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C483-9B34-4926-BEF3-87BA41708DF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16BD-63DA-4B52-B710-7EF4D45A047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BC9-342E-439E-B8E8-BC7BBC1E73F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47C-9279-4327-A081-A17D2F49835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78F-3AAA-45B6-9A90-D880BF54EA6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D07-5EAF-4420-826F-7ECC3574483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FA2-A3C1-473D-98B1-6C17F8D541C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98D3-BFE8-4D04-BD28-A24708D3548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CAT 3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Viviane Grebert</cp:lastModifiedBy>
  <dcterms:modified xsi:type="dcterms:W3CDTF">2011-12-08T19:00:34Z</dcterms:modified>
  <cp:revision>104</cp:revision>
  <dc:subject/>
  <dc:title>Allez, viens! – Level 2</dc:title>
</cp:coreProperties>
</file>